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A96-9686-48FE-952B-E726AD47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23A-11F7-4111-9682-FABA8AD7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D80-1897-45E5-816D-36A09085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A39-9D5B-4C9C-A523-1F3E6653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A550-46AF-4D2C-8C2C-657BF525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1966-4022-45BB-9A62-894B85A6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C858-C66D-4BBB-A5FD-7E91C3EC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7F1E-B672-48E8-ADE7-F09D8A7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D920-E5FD-4DB5-84BE-C44E1790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896C-FC88-48F7-BDD5-999B2F3D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B06C-A73F-4C19-8856-883AAF67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334-7097-48EB-AACB-4226626C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C794-70F5-44C6-A7C6-1A191EF0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69E9-CB7F-4174-AC2E-ED4F8DB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8F3F-2118-4C72-A7A4-30ACD644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91D6-6352-4F9F-BE25-A0A150D2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33E5-3083-48E2-A7EF-6BB11837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B9E-CE20-4179-8576-950EDC62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EB4-E592-465F-A51C-0B25E910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AC1-5121-44A6-8850-D3330B3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70E-D6B4-4E26-ACAD-1C125F17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D77-EC96-4D6E-9418-4CFD0F6B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BD1-29B7-4384-A50B-FED719B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00B-D58C-438A-A61E-EC4832F6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55BB-59E8-4341-9A40-6A9DDCCC7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CBC7-0420-46D4-925F-6FFEE4731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travelblog.org/Wallpaper/pix/tb_fiji_sunset_wallpaper.jpg&amp;imgrefurl=http://www.travelblog.org/Wallpaper/coral_coast_fiji.html&amp;h=864&amp;w=1152&amp;sz=113&amp;tbnid=NFp6ArqlsUoJ::&amp;tbnh=112&amp;tbnw=150&amp;prev=/images%3Fq%3Dsunset&amp;usg=__TlBcfbYaN6XSOMTpxnRgk7oOJcQ=&amp;sa=X&amp;oi=image_result&amp;resnum=5&amp;ct=image&amp;cd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A Trip Abro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verly Br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Wool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http://www.travelblog.org/Wallpaper/coral_coast_fiji.htm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1600200"/>
            <a:ext cx="4647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3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CFQ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sential Quest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common to all human being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it Quest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can your understanding of Spanish language, history, geography and economics help you during your imaginary trip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ent Ques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products, practices and perspectives of your countr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Vision for Un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creating this unit, I wan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my students study of the Spanish-speaking world personally relev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 of ways to provide my students with a real-world application of their knowledge that they may apply in the fu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is unit, I want my student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 ways to connect Latino culture to their 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echnology to communicate with different aud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Project Approach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3360" y="213336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my students work on this project, th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ect their project to the re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ect via technology to foreign cultures and current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 a product that shows what they’ve 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 their learning with a real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510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21</a:t>
            </a:r>
            <a:r>
              <a:rPr b="1" lang="en-US" sz="4400" spc="-1" strike="noStrike" baseline="30000">
                <a:solidFill>
                  <a:srgbClr val="b7e7ff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 Century Lear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develop higher-order and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 skills in this unit as th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20040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he Essential and Unit Questions to guide their analysis of their project to find themes that cross cul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e their ideas to a community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 on their reading, writing, research, and thinking strategies, and modify and adapt them a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project assessments to self-assess their work and give feedback to their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Gauging Student Needs Assessment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828800"/>
            <a:ext cx="693396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CFQs to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s’ ideas about the Spanish-speaking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ground knowledge of Latino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 2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Century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similarities and differences between cul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Gauging Student Needs Assessment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use the information from these assessment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14600"/>
            <a:ext cx="71629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cus on aspects of the Spanish-speaking world that students have prior misconceptions ab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 activities in which they will answer their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97836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use the information from these assessment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105520"/>
            <a:ext cx="7010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mpare their questions other students’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t goals for how they will answer their own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7920" y="44197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¡Buen Viaj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joy Your Trip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Director Of Technology</cp:lastModifiedBy>
  <dcterms:modified xsi:type="dcterms:W3CDTF">2008-12-11T20:09:40Z</dcterms:modified>
  <cp:revision>30</cp:revision>
  <dc:subject/>
  <dc:title>What can Romeo and Juliet Teach Us About Ourselves?</dc:title>
</cp:coreProperties>
</file>